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0324-FC87-49E6-B6B0-FA4ABACE6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490C-4971-4A65-A4C9-867F71C0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2CD3-9412-487C-B96F-521A9571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D032-545F-4D35-98A8-C52696D4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383D-1952-42A7-B285-5A3ED5799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8390-3F08-4FC4-A924-1E436624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6720-A839-40D1-8464-D79AD269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914F-5EAB-4B9A-98FD-F071795C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6780-5EE3-4687-BCFB-F2BBB59F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38DA-7017-4AC4-B259-29E0C849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4D58-7E7B-49F0-87BC-DDAAB9A6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A1DA-7283-466C-B88B-DEE94C96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892E-CE17-487F-B796-7B18C9C2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9377-5484-4553-9CED-A4B2E833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34BE-DD29-4DC1-B110-591429E6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74F2-6AC4-4160-B723-EE8D9726E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8FC1-047A-44B1-B2E8-BFC4679B6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7DD2-7B08-49E6-993C-89EE3C34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DBAC-5E48-4268-A726-ECE9FC9D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3AB8-925E-4C23-9DDB-5E4DCF92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28D1-AD5B-41D5-B5E3-8F1168DA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01E4-9AFC-41C2-865D-C62A9CA4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B699-8A30-4EEF-B32D-54CE84F8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8112-845B-42F7-B665-E77EDFF3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F644-F0C1-47E4-8535-B21035F53DE6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5423-3502-4012-BA13-48AAEB71B9D2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llo and welco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eam Convolo extend a warm welcome to you al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o are we and what do we represen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Background to the projec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he information Team Convolo have based this presentation 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ustomers: Why consider th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s are the most vital part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s are concerned with the end result of the system – not how it 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bd05680_" descr=""/>
          <p:cNvPicPr/>
          <p:nvPr/>
        </p:nvPicPr>
        <p:blipFill>
          <a:blip r:embed="rId1"/>
          <a:stretch/>
        </p:blipFill>
        <p:spPr>
          <a:xfrm>
            <a:off x="5145120" y="2565360"/>
            <a:ext cx="38098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we have focused on the custom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considered how every operational units role will have effected the custom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ied to make it impossible for customers to see any major operational changes in the Airline’s oper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efits to the custom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stomers will be the main benefices if the proposed system is implemen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ation to main benefi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efficiency and accuracy of systems will benefit custom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of system will instil customer confidence in the Lakeland’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raints and costs for the custom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stomer requirements and needs must always be paramount. Example - Must be able to book, reserve and cancel ticke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failure will see loss of customers, and thus loss of reven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04:28Z</dcterms:created>
  <dc:creator>Robert Irwin</dc:creator>
  <dc:description/>
  <dc:language>en-US</dc:language>
  <cp:lastModifiedBy>Robert Irwin</cp:lastModifiedBy>
  <dcterms:modified xsi:type="dcterms:W3CDTF">2002-12-10T22:27:44Z</dcterms:modified>
  <cp:revision>2</cp:revision>
  <dc:subject/>
  <dc:title>Hello and welcome</dc:title>
</cp:coreProperties>
</file>