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F6A7-B426-4342-85A9-54EBE9B94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5299-5100-4BE9-914F-D367E036A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D283-6A7D-4C62-A451-A6341D294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44CC-552D-4045-A62A-0534ECFDD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50CD-D0BA-449A-A3B5-C7ED7403F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C9C7-CD46-4BA3-9A0E-0574953D0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3C3B-5963-45CC-B839-B3C15FE64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1C98-9270-4059-B6A6-D8BA98772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18BD-F895-44B8-A570-8C2B29161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4D05-12F9-4D5E-B873-0C05EDDD9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CA8A-68E4-475E-8A38-6A2849DB4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4915-D8C5-4165-B3A2-BFB77A284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7CEBD-59BD-437E-AFEF-A0FDDA5BB3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Customer Services Manag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g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ustomers have confirme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ir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serva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igning sea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ording premier miles or premier poi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suring passengers are a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ir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te on ti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ne automatic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ed for automatically and distributed more even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rded automatic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 lists of customers not yet at g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clogo" descr=""/>
          <p:cNvPicPr/>
          <p:nvPr/>
        </p:nvPicPr>
        <p:blipFill>
          <a:blip r:embed="rId1"/>
          <a:stretch/>
        </p:blipFill>
        <p:spPr>
          <a:xfrm>
            <a:off x="7620120" y="304920"/>
            <a:ext cx="99036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Other benefac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ef Pilot, flight attendants and catering sectio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cket agen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 in desk staf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clogo" descr=""/>
          <p:cNvPicPr/>
          <p:nvPr/>
        </p:nvPicPr>
        <p:blipFill>
          <a:blip r:embed="rId1"/>
          <a:stretch/>
        </p:blipFill>
        <p:spPr>
          <a:xfrm>
            <a:off x="7620120" y="304920"/>
            <a:ext cx="99036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Areas out of scope of this Desig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tera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o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your partn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system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e crash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enge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iv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out confirming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o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clogo" descr=""/>
          <p:cNvPicPr/>
          <p:nvPr/>
        </p:nvPicPr>
        <p:blipFill>
          <a:blip r:embed="rId1"/>
          <a:stretch/>
        </p:blipFill>
        <p:spPr>
          <a:xfrm>
            <a:off x="7620120" y="304920"/>
            <a:ext cx="99036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Implementation pl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ase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rallel conversio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ules integrated one by o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st expens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fers most prot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difficult to implement but worth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clogo" descr=""/>
          <p:cNvPicPr/>
          <p:nvPr/>
        </p:nvPicPr>
        <p:blipFill>
          <a:blip r:embed="rId1"/>
          <a:stretch/>
        </p:blipFill>
        <p:spPr>
          <a:xfrm>
            <a:off x="7620120" y="304920"/>
            <a:ext cx="99036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Main</a:t>
            </a:r>
            <a:r>
              <a:rPr b="1" lang="en-GB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benefit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anagement information system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arketing manag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ales Manag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stomer Services Manag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uld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re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clogo" descr=""/>
          <p:cNvPicPr/>
          <p:nvPr/>
        </p:nvPicPr>
        <p:blipFill>
          <a:blip r:embed="rId1"/>
          <a:stretch/>
        </p:blipFill>
        <p:spPr>
          <a:xfrm>
            <a:off x="7620120" y="304920"/>
            <a:ext cx="99036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convolologo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8001000" cy="179388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17521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1447920" y="3352680"/>
          <a:ext cx="6095880" cy="2371680"/>
        </p:xfrm>
        <a:graphic>
          <a:graphicData uri="http://schemas.openxmlformats.org/drawingml/2006/table">
            <a:tbl>
              <a:tblPr/>
              <a:tblGrid>
                <a:gridCol w="3047760"/>
                <a:gridCol w="3048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omas Fitzsimm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airm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ris Mallit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UML Specialist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mes Le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Specificatio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Coordinat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ominic Luth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Secretary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obert Hayt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General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Edit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obert Irwi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usiness Coordinator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3200400" y="1371600"/>
          <a:ext cx="182520" cy="51768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"/>
          <p:cNvSpPr/>
          <p:nvPr/>
        </p:nvSpPr>
        <p:spPr>
          <a:xfrm>
            <a:off x="2498760" y="2708280"/>
            <a:ext cx="4282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2743200"/>
            <a:ext cx="76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ly toget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1T23:16:03Z</dcterms:created>
  <dc:creator>mcaiyjl2</dc:creator>
  <dc:description/>
  <dc:language>en-US</dc:language>
  <cp:lastModifiedBy>mcaiyjl2</cp:lastModifiedBy>
  <dcterms:modified xsi:type="dcterms:W3CDTF">2002-12-11T23:47:05Z</dcterms:modified>
  <cp:revision>7</cp:revision>
  <dc:subject/>
  <dc:title>Customer Services Manager</dc:title>
</cp:coreProperties>
</file>