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615-9179-498D-85E7-91681DBD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1CD3-02FB-4307-BCC8-1F9D007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96B-9771-4EC1-B4DE-EE52C0B4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182-F87F-4523-8DBB-8753DD83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F10-FB28-4DBC-8D96-79AB3B2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3FD-04A5-4CA3-88FA-859D9D78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AF5-1404-4AEF-B2B9-FD9188B5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0F1-A4EA-4C7D-A1C4-890852A3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5B9-8A2A-421A-8F71-207185E2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143-F562-4127-AEDC-99533A6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7DC-12DC-4BB7-8654-0958FA8C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D8B-E53E-4657-B2D5-008B3227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56D5-9448-456A-85DF-90A96C263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1793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246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7920" y="3352680"/>
          <a:ext cx="6095880" cy="2371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 Fitzsimm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 Malli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UM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mes L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pecific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ic Lu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creta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Hay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eneral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d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Irw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usiness Coordina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200400" y="13716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98760" y="2708280"/>
            <a:ext cx="42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7432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ales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2205000"/>
            <a:ext cx="3888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every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customer m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2205000"/>
            <a:ext cx="3887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ights filled generates more pro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the airline to offer a more competitive pr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39200" y="333360"/>
            <a:ext cx="977760" cy="165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800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anning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916280"/>
            <a:ext cx="38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ing of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pro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1916280"/>
            <a:ext cx="38876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gh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prediction increases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venue enables airline to offer more competitive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 remains viable and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 expands into new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800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67080" y="213372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ata storag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ways of structuring data into usefu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and advance data mod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et Issu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40384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goal of the syst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autoRev="1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572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ustomer Services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ustomers have confir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i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serv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ing se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ing premier miles or premier po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suring passengers are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te on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1640" y="2057040"/>
            <a:ext cx="403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ed for automatically and distributed more eve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lists of customers not yet at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800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Other bene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ief Pilot, flight attendants and catering sec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cket ag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in desk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1625400" cy="18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16720" y="3860640"/>
            <a:ext cx="214308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reas out of scope of this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ter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your 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 syste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l side to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seng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riv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out confir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o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1827000" cy="1725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32720" y="2852640"/>
            <a:ext cx="1780920" cy="178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643280" y="4292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007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has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llel conver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s integrated one by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fers most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difficult to implement but wor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74508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ain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benefit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762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nagement information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rketing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ales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Services Mana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80000" y="2205000"/>
            <a:ext cx="2857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1793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47920" y="3352680"/>
          <a:ext cx="6095880" cy="2371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 Fitzsimm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 Malli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UM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mes L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pecific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ic Lu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creta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Hay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eneral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d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Irw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usiness Coordina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00400" y="13716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498760" y="2708280"/>
            <a:ext cx="42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7432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Hello and 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Convolo extends a warm welcome to you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re we and what do we repre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 to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formation Team Convolo have based this presentation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ustomers: Why consider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are the most vital part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are concerned with the end result of the system – not how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2759040" cy="218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292720" y="4292640"/>
            <a:ext cx="29368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How we have focused on the cust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considered how every operational units role will have effected the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 to make it impossible for customers to see any major operation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enefits to the custo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ers benefit if the proposed system is implemen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 to main benefi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efficiency and accuracy of systems will benefit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system will instil customer conf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straints and costs for the cust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requirements and needs must always be paramount. Example - Must be able to book, reserve and cancel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83400" y="180972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90360" cy="1676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4000" y="501336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failure will see loss     of customers, and thus loss      of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18208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Inform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goal of the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32000" y="2060640"/>
            <a:ext cx="2592360" cy="24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880" y="8366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er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1440" y="580536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5440" y="566100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ong term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9240" y="692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63280" y="1197000"/>
            <a:ext cx="158436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423040" y="1113480"/>
            <a:ext cx="1614600" cy="1372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19280" y="4221000"/>
            <a:ext cx="1944720" cy="15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4221000"/>
            <a:ext cx="165564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arketing Mana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2060640"/>
            <a:ext cx="38876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customer m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fee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book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o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information on previous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060640"/>
            <a:ext cx="3887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Ai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targeting of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ustomer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book F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overbooking predictions – mor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800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3:51:18Z</dcterms:created>
  <dc:creator>mcaiytf2</dc:creator>
  <dc:description/>
  <dc:language>en-US</dc:language>
  <cp:lastModifiedBy>mcaiyjl2</cp:lastModifiedBy>
  <dcterms:modified xsi:type="dcterms:W3CDTF">2002-12-13T14:05:23Z</dcterms:modified>
  <cp:revision>22</cp:revision>
  <dc:subject/>
  <dc:title>Management Information System</dc:title>
</cp:coreProperties>
</file>