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D71-0492-49D9-B7D8-71D6207A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D6E-CAAA-44C5-80C0-A2A0BEEF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C12-152F-4AF0-BD59-12FAABB4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427-04B1-46F5-A3BA-0685B81B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6CB-C900-47A9-A2C1-0BD510B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29B-5177-462C-94E1-D00F0107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18E-D664-4BBC-964B-A25B821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EBF-1DE6-480F-A7B2-077FE0BB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498-03C4-47DF-B92B-E6CB573A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AD2-E16D-465B-A92A-F2FB431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E69-7CA2-4828-BA91-3532C84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361-558E-4E12-A7DA-1173BAB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355A-7032-4375-98C1-5951029A1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stomer Services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stomers have confi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i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er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ing se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premier miles or premier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uring passengers ar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 on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d for automatically and distributed more eve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ed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lists of customers not yet at 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her bene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Pilot, flight attendants and catering 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ket ag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n desk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reas out of scope of this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your part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ystem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e cras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ng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v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out confirm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llel conver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integrated one by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s most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difficult to implement but wor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in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enefi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nagement information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les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Services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volologo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179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47920" y="3352680"/>
          <a:ext cx="6095880" cy="2371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itzsimm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 Malli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ML Speciali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L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ic Lu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cretary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Hay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enera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d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Irw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usiness Coordinat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200400" y="13716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498760" y="270828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432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y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23:16:03Z</dcterms:created>
  <dc:creator>mcaiyjl2</dc:creator>
  <dc:description/>
  <dc:language>en-US</dc:language>
  <cp:lastModifiedBy>mcaiyjl2</cp:lastModifiedBy>
  <dcterms:modified xsi:type="dcterms:W3CDTF">2002-12-11T23:47:05Z</dcterms:modified>
  <cp:revision>7</cp:revision>
  <dc:subject/>
  <dc:title>Customer Services Manager</dc:title>
</cp:coreProperties>
</file>